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659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659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383616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056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371600"/>
            <a:ext cx="250056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371600"/>
            <a:ext cx="250056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056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3836160"/>
            <a:ext cx="250056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3836160"/>
            <a:ext cx="250056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6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6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897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37897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659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37897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897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383616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37897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6592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2133720" cy="1219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133720" y="6095880"/>
            <a:ext cx="632448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019920"/>
            <a:ext cx="632448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295280"/>
            <a:ext cx="617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6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oundonsound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oustique musica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HG Mincho Light J;MS Gothic;HG"/>
              </a:rPr>
              <a:t>Mains d’œuv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190760" cy="33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543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ractéristique d’un signal sonore harmonique : timb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éfinition officielle tout ce qui n’est pas le res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ntative de catégor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paramètres importants : attaque, richesse spec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543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lation hauteur musicale / fréqu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valle : rapport entre fré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me : création « acoustiqu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: oct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/2 : 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/3 : 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/4 :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/5 :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438280" y="2666880"/>
            <a:ext cx="6396120" cy="3252960"/>
            <a:chOff x="2438280" y="2666880"/>
            <a:chExt cx="6396120" cy="3252960"/>
          </a:xfrm>
        </p:grpSpPr>
        <p:grpSp>
          <p:nvGrpSpPr>
            <p:cNvPr id="76" name=""/>
            <p:cNvGrpSpPr/>
            <p:nvPr/>
          </p:nvGrpSpPr>
          <p:grpSpPr>
            <a:xfrm>
              <a:off x="2438280" y="2666880"/>
              <a:ext cx="6396120" cy="3252960"/>
              <a:chOff x="2438280" y="2666880"/>
              <a:chExt cx="6396120" cy="3252960"/>
            </a:xfrm>
          </p:grpSpPr>
          <p:pic>
            <p:nvPicPr>
              <p:cNvPr id="77" name="" descr=""/>
              <p:cNvPicPr/>
              <p:nvPr/>
            </p:nvPicPr>
            <p:blipFill>
              <a:blip r:embed="rId1"/>
              <a:srcRect l="0" t="6299" r="0" b="4552"/>
              <a:stretch/>
            </p:blipFill>
            <p:spPr>
              <a:xfrm>
                <a:off x="2438280" y="2666880"/>
                <a:ext cx="6396120" cy="325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4267080" y="3886200"/>
                <a:ext cx="99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57800" y="4265640"/>
                <a:ext cx="99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234200" y="4871880"/>
                <a:ext cx="990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248520" y="4495680"/>
              <a:ext cx="99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94960" y="3352680"/>
            <a:ext cx="334080" cy="454320"/>
            <a:chOff x="4494960" y="3352680"/>
            <a:chExt cx="334080" cy="454320"/>
          </a:xfrm>
        </p:grpSpPr>
        <p:sp>
          <p:nvSpPr>
            <p:cNvPr id="83" name=""/>
            <p:cNvSpPr/>
            <p:nvPr/>
          </p:nvSpPr>
          <p:spPr>
            <a:xfrm>
              <a:off x="4495680" y="3352680"/>
              <a:ext cx="333360" cy="454320"/>
            </a:xfrm>
            <a:custGeom>
              <a:avLst/>
              <a:gdLst>
                <a:gd name="textAreaLeft" fmla="*/ 360 w 333360"/>
                <a:gd name="textAreaRight" fmla="*/ 333000 w 333360"/>
                <a:gd name="textAreaTop" fmla="*/ 360 h 454320"/>
                <a:gd name="textAreaBottom" fmla="*/ 453960 h 454320"/>
              </a:gdLst>
              <a:ahLst/>
              <a:rect l="textAreaLeft" t="textAreaTop" r="textAreaRight" b="textAreaBottom"/>
              <a:pathLst>
                <a:path w="21600" h="29429">
                  <a:moveTo>
                    <a:pt x="102" y="0"/>
                  </a:moveTo>
                  <a:arcTo wR="102" hR="102" stAng="16200000" swAng="-5400000"/>
                  <a:lnTo>
                    <a:pt x="0" y="29327"/>
                  </a:lnTo>
                  <a:arcTo wR="102" hR="102" stAng="10800000" swAng="-5400000"/>
                  <a:lnTo>
                    <a:pt x="21498" y="29429"/>
                  </a:lnTo>
                  <a:arcTo wR="102" hR="102" stAng="5400000" swAng="-5400000"/>
                  <a:lnTo>
                    <a:pt x="21600" y="102"/>
                  </a:lnTo>
                  <a:arcTo wR="102" hR="10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494960" y="3352680"/>
              <a:ext cx="333720" cy="454320"/>
              <a:chOff x="4494960" y="3352680"/>
              <a:chExt cx="333720" cy="454320"/>
            </a:xfrm>
          </p:grpSpPr>
          <p:sp>
            <p:nvSpPr>
              <p:cNvPr id="85" name=""/>
              <p:cNvSpPr/>
              <p:nvPr/>
            </p:nvSpPr>
            <p:spPr>
              <a:xfrm>
                <a:off x="4495680" y="3352680"/>
                <a:ext cx="331920" cy="454320"/>
              </a:xfrm>
              <a:custGeom>
                <a:avLst/>
                <a:gdLst>
                  <a:gd name="textAreaLeft" fmla="*/ 360 w 331920"/>
                  <a:gd name="textAreaRight" fmla="*/ 331560 w 331920"/>
                  <a:gd name="textAreaTop" fmla="*/ 360 h 454320"/>
                  <a:gd name="textAreaBottom" fmla="*/ 453960 h 454320"/>
                </a:gdLst>
                <a:ahLst/>
                <a:rect l="textAreaLeft" t="textAreaTop" r="textAreaRight" b="textAreaBottom"/>
                <a:pathLst>
                  <a:path w="21600" h="29557">
                    <a:moveTo>
                      <a:pt x="103" y="0"/>
                    </a:moveTo>
                    <a:arcTo wR="103" hR="103" stAng="16200000" swAng="-5400000"/>
                    <a:lnTo>
                      <a:pt x="0" y="29454"/>
                    </a:lnTo>
                    <a:arcTo wR="103" hR="103" stAng="10800000" swAng="-5400000"/>
                    <a:lnTo>
                      <a:pt x="21497" y="29557"/>
                    </a:lnTo>
                    <a:arcTo wR="103" hR="103" stAng="5400000" swAng="-5400000"/>
                    <a:lnTo>
                      <a:pt x="21600" y="103"/>
                    </a:lnTo>
                    <a:arcTo wR="103" hR="10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4494960" y="3352680"/>
                <a:ext cx="333720" cy="454320"/>
                <a:chOff x="4494960" y="3352680"/>
                <a:chExt cx="333720" cy="4543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495680" y="3352680"/>
                  <a:ext cx="331920" cy="454320"/>
                </a:xfrm>
                <a:custGeom>
                  <a:avLst/>
                  <a:gdLst>
                    <a:gd name="textAreaLeft" fmla="*/ 360 w 331920"/>
                    <a:gd name="textAreaRight" fmla="*/ 331560 w 331920"/>
                    <a:gd name="textAreaTop" fmla="*/ 360 h 454320"/>
                    <a:gd name="textAreaBottom" fmla="*/ 453960 h 454320"/>
                  </a:gdLst>
                  <a:ahLst/>
                  <a:rect l="textAreaLeft" t="textAreaTop" r="textAreaRight" b="textAreaBottom"/>
                  <a:pathLst>
                    <a:path w="21600" h="29557">
                      <a:moveTo>
                        <a:pt x="103" y="0"/>
                      </a:moveTo>
                      <a:arcTo wR="103" hR="103" stAng="16200000" swAng="-5400000"/>
                      <a:lnTo>
                        <a:pt x="0" y="29454"/>
                      </a:lnTo>
                      <a:arcTo wR="103" hR="103" stAng="10800000" swAng="-5400000"/>
                      <a:lnTo>
                        <a:pt x="21497" y="29557"/>
                      </a:lnTo>
                      <a:arcTo wR="103" hR="103" stAng="5400000" swAng="-5400000"/>
                      <a:lnTo>
                        <a:pt x="21600" y="103"/>
                      </a:lnTo>
                      <a:arcTo wR="103" hR="103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494960" y="3352680"/>
                  <a:ext cx="333720" cy="442080"/>
                </a:xfrm>
                <a:custGeom>
                  <a:avLst/>
                  <a:gdLst>
                    <a:gd name="textAreaLeft" fmla="*/ 360 w 333720"/>
                    <a:gd name="textAreaRight" fmla="*/ 333360 w 333720"/>
                    <a:gd name="textAreaTop" fmla="*/ 360 h 442080"/>
                    <a:gd name="textAreaBottom" fmla="*/ 441720 h 442080"/>
                  </a:gdLst>
                  <a:ahLst/>
                  <a:rect l="textAreaLeft" t="textAreaTop" r="textAreaRight" b="textAreaBottom"/>
                  <a:pathLst>
                    <a:path w="21600" h="28606">
                      <a:moveTo>
                        <a:pt x="103" y="0"/>
                      </a:moveTo>
                      <a:arcTo wR="103" hR="103" stAng="16200000" swAng="-5400000"/>
                      <a:lnTo>
                        <a:pt x="0" y="28503"/>
                      </a:lnTo>
                      <a:arcTo wR="103" hR="103" stAng="10800000" swAng="-5400000"/>
                      <a:lnTo>
                        <a:pt x="21497" y="28606"/>
                      </a:lnTo>
                      <a:arcTo wR="103" hR="103" stAng="5400000" swAng="-5400000"/>
                      <a:lnTo>
                        <a:pt x="21600" y="103"/>
                      </a:lnTo>
                      <a:arcTo wR="103" hR="103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" name=""/>
          <p:cNvGrpSpPr/>
          <p:nvPr/>
        </p:nvGrpSpPr>
        <p:grpSpPr>
          <a:xfrm>
            <a:off x="5484960" y="3657600"/>
            <a:ext cx="571680" cy="453960"/>
            <a:chOff x="5484960" y="3657600"/>
            <a:chExt cx="571680" cy="453960"/>
          </a:xfrm>
        </p:grpSpPr>
        <p:sp>
          <p:nvSpPr>
            <p:cNvPr id="90" name=""/>
            <p:cNvSpPr/>
            <p:nvPr/>
          </p:nvSpPr>
          <p:spPr>
            <a:xfrm>
              <a:off x="5486400" y="3657600"/>
              <a:ext cx="56988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484960" y="3657600"/>
              <a:ext cx="571680" cy="452520"/>
              <a:chOff x="5484960" y="3657600"/>
              <a:chExt cx="571680" cy="452520"/>
            </a:xfrm>
          </p:grpSpPr>
          <p:sp>
            <p:nvSpPr>
              <p:cNvPr id="92" name=""/>
              <p:cNvSpPr/>
              <p:nvPr/>
            </p:nvSpPr>
            <p:spPr>
              <a:xfrm>
                <a:off x="5486400" y="3657600"/>
                <a:ext cx="568440" cy="4525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5484960" y="3657600"/>
                <a:ext cx="571680" cy="452520"/>
                <a:chOff x="5484960" y="3657600"/>
                <a:chExt cx="571680" cy="4525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486400" y="3657600"/>
                  <a:ext cx="568440" cy="452520"/>
                </a:xfrm>
                <a:prstGeom prst="roundRect">
                  <a:avLst>
                    <a:gd name="adj" fmla="val 3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84960" y="3657600"/>
                  <a:ext cx="571680" cy="442080"/>
                </a:xfrm>
                <a:prstGeom prst="roundRect">
                  <a:avLst>
                    <a:gd name="adj" fmla="val 3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" name=""/>
          <p:cNvGrpSpPr/>
          <p:nvPr/>
        </p:nvGrpSpPr>
        <p:grpSpPr>
          <a:xfrm>
            <a:off x="6399360" y="3886200"/>
            <a:ext cx="571680" cy="453960"/>
            <a:chOff x="6399360" y="3886200"/>
            <a:chExt cx="571680" cy="453960"/>
          </a:xfrm>
        </p:grpSpPr>
        <p:sp>
          <p:nvSpPr>
            <p:cNvPr id="97" name=""/>
            <p:cNvSpPr/>
            <p:nvPr/>
          </p:nvSpPr>
          <p:spPr>
            <a:xfrm>
              <a:off x="6400800" y="3886200"/>
              <a:ext cx="56988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399360" y="3886200"/>
              <a:ext cx="571680" cy="452520"/>
              <a:chOff x="6399360" y="3886200"/>
              <a:chExt cx="571680" cy="452520"/>
            </a:xfrm>
          </p:grpSpPr>
          <p:sp>
            <p:nvSpPr>
              <p:cNvPr id="99" name=""/>
              <p:cNvSpPr/>
              <p:nvPr/>
            </p:nvSpPr>
            <p:spPr>
              <a:xfrm>
                <a:off x="6400800" y="3886200"/>
                <a:ext cx="568440" cy="4525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6399360" y="3886200"/>
                <a:ext cx="571680" cy="452520"/>
                <a:chOff x="6399360" y="3886200"/>
                <a:chExt cx="571680" cy="4525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400800" y="3886200"/>
                  <a:ext cx="568440" cy="452520"/>
                </a:xfrm>
                <a:prstGeom prst="roundRect">
                  <a:avLst>
                    <a:gd name="adj" fmla="val 3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399360" y="3886200"/>
                  <a:ext cx="571680" cy="442080"/>
                </a:xfrm>
                <a:prstGeom prst="roundRect">
                  <a:avLst>
                    <a:gd name="adj" fmla="val 3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4/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3" name=""/>
          <p:cNvGrpSpPr/>
          <p:nvPr/>
        </p:nvGrpSpPr>
        <p:grpSpPr>
          <a:xfrm>
            <a:off x="7466040" y="4267080"/>
            <a:ext cx="571680" cy="454320"/>
            <a:chOff x="7466040" y="4267080"/>
            <a:chExt cx="571680" cy="454320"/>
          </a:xfrm>
        </p:grpSpPr>
        <p:sp>
          <p:nvSpPr>
            <p:cNvPr id="104" name=""/>
            <p:cNvSpPr/>
            <p:nvPr/>
          </p:nvSpPr>
          <p:spPr>
            <a:xfrm>
              <a:off x="7467480" y="4267080"/>
              <a:ext cx="56988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66040" y="4267080"/>
              <a:ext cx="571680" cy="454320"/>
              <a:chOff x="7466040" y="4267080"/>
              <a:chExt cx="571680" cy="454320"/>
            </a:xfrm>
          </p:grpSpPr>
          <p:sp>
            <p:nvSpPr>
              <p:cNvPr id="106" name=""/>
              <p:cNvSpPr/>
              <p:nvPr/>
            </p:nvSpPr>
            <p:spPr>
              <a:xfrm>
                <a:off x="7467480" y="4267080"/>
                <a:ext cx="568440" cy="4543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466040" y="4267080"/>
                <a:ext cx="571680" cy="454320"/>
                <a:chOff x="7466040" y="4267080"/>
                <a:chExt cx="571680" cy="4543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467480" y="4267080"/>
                  <a:ext cx="56844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466040" y="4267080"/>
                  <a:ext cx="571680" cy="442080"/>
                </a:xfrm>
                <a:prstGeom prst="roundRect">
                  <a:avLst>
                    <a:gd name="adj" fmla="val 3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5/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543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lation hauteur musicale / fréqu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cun accordage ju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me tempérée : 12 demi-tons = 1 oct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ée LA3 = 440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truments : corde lib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plag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bration c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bration pl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318924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truments : percus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s de réson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3040" y="1969920"/>
            <a:ext cx="2752920" cy="275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186000" y="1989000"/>
            <a:ext cx="2752920" cy="275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124680" y="1971720"/>
            <a:ext cx="275256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truments : à v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ésonance d’un tuyau :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06680" y="2049480"/>
            <a:ext cx="492120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72400" y="4191120"/>
            <a:ext cx="853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124080"/>
            <a:ext cx="1676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 = P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truments : cordes frotté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phénomè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lation c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bration pl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12585" r="0" b="29932"/>
          <a:stretch/>
        </p:blipFill>
        <p:spPr>
          <a:xfrm>
            <a:off x="2057400" y="3048120"/>
            <a:ext cx="5715000" cy="131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0" t="20182" r="0" b="20182"/>
          <a:stretch/>
        </p:blipFill>
        <p:spPr>
          <a:xfrm>
            <a:off x="2057400" y="4343400"/>
            <a:ext cx="571500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sycho-acoustique : masqu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quage fréquent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829040" cy="39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sycho-acoustique : masqu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691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sycho-acoustique : masqu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691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 ASA 22 : Masqueur et signal d’amplitude décroiss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 nombre de répé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595" t="2312" r="0" b="0"/>
          <a:stretch/>
        </p:blipFill>
        <p:spPr>
          <a:xfrm>
            <a:off x="1219320" y="3124080"/>
            <a:ext cx="624816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n p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ule : X = sin ( 2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25780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sycho-acoustique : masqu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quage tempo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422" t="756" r="0" b="756"/>
          <a:stretch/>
        </p:blipFill>
        <p:spPr>
          <a:xfrm>
            <a:off x="1219320" y="2209680"/>
            <a:ext cx="5948280" cy="32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sycho-acoustique : masqu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691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émo ASA 23-25 : Masqueur et signal d’amplitude décroiss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 nombre de répé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6050" r="0" b="0"/>
          <a:stretch/>
        </p:blipFill>
        <p:spPr>
          <a:xfrm>
            <a:off x="380880" y="4191120"/>
            <a:ext cx="815364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sycho-acoustique : disto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ille : non-liné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584680" cy="30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691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. Pressnitzer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sychoacoustique et Cognition Musica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Cours de Master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oundonsoun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. Schaeffer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lfège de l'Objet Son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n pur : batt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tements lorsque les fréquences sont pro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510552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n composé : harmoniq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équence : multiples entiers de f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51340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n composé : inharmoniq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us de différentes fré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56236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n composé : bru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tre rempli : non dis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 acoustique : bruit blanc/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5946" r="0" b="3847"/>
          <a:stretch/>
        </p:blipFill>
        <p:spPr>
          <a:xfrm>
            <a:off x="2133720" y="2590920"/>
            <a:ext cx="502920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543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ractéristique d’un signal sonore harmonique : haute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uteur rel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ériode enten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0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343400" y="2133720"/>
            <a:ext cx="5027760" cy="3767040"/>
            <a:chOff x="4343400" y="2133720"/>
            <a:chExt cx="5027760" cy="3767040"/>
          </a:xfrm>
        </p:grpSpPr>
        <p:sp>
          <p:nvSpPr>
            <p:cNvPr id="63" name=""/>
            <p:cNvSpPr/>
            <p:nvPr/>
          </p:nvSpPr>
          <p:spPr>
            <a:xfrm>
              <a:off x="4343400" y="2133720"/>
              <a:ext cx="5027760" cy="3767040"/>
            </a:xfrm>
            <a:prstGeom prst="roundRect">
              <a:avLst>
                <a:gd name="adj" fmla="val 42"/>
              </a:avLst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5027760" cy="3767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543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ractéristique d’un signal sonore harmonique : intensit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= 10 log10( X(t)^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k to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510552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543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ractéristique d’un signal sonore harmonique : duré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en durée min hau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ces différentes (A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332240" cy="327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